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BA1-817C-4FB4-8471-8E22255F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B96-3FF8-46A7-A756-153AA8B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80260-0C9C-4094-9A4E-02ED3CD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22B0F-171D-44FC-8C48-85655AF3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AF81E-0A5D-4A0A-851A-B9CBD110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0452B-AB37-4988-864B-6C4EE5C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DD2CB-4ABB-4D4C-89E0-9DBB11B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EB4C5-B975-446A-B14C-E510D4F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E654E-501A-40A6-BC32-3E432ED4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E9960-1EEB-4B9C-930E-9BAA8443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70D6A-F28C-4141-80D0-08C3ECF2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C598B-BB25-4B22-A0E1-B6F24F27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594-3EB3-4C26-AFBC-B6FB1AE1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7D699-ACA8-4ADA-9970-AEEDBF0A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C8965-9809-48EE-AD00-017D6E73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AEF03-A1C9-49EA-90A4-7AA8FB47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5D277-14CE-4432-9660-20C058AC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88C56-17C2-4071-A1DE-BFD34F6A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31CC0-9330-4B7A-83F6-F4BE54C6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3A730-7CE7-43F1-8D87-3C3E1D72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3ADA2-1B30-4440-98B2-148CBC6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BEC47-2D4D-445A-A13F-29AF06B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B8975-7DE0-4692-B88E-9D7FC82E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AF1-3E43-4F2A-AA3D-7A566D72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0BD1-BC95-4FE9-9D31-20679465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067B-D87B-46CE-B7EA-A6A0E1F8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09AC5-18AC-45F6-BFB7-20744C7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37232-C7C7-4428-9AD1-32D12D34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7B516-2214-4352-B5A3-7CF10CF6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DED37-C02A-4E2C-B66D-0B42BDD8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BB28F-D095-43EF-92B8-B31EFEEB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BB000-C090-4338-BD76-DE89C67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2E168-41CF-4120-8228-39C5786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B4BD-07A4-47E8-BA91-AB08D5C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1CC-A330-416B-A5A3-137F8DDE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FDCD-ABE6-41E9-BD7D-D46DBBB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23A3B-D6F8-495E-83C4-9083147E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2B20E-6866-439C-8E50-20000D6F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80820-D167-4AE3-80F1-13E6A111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8BBCA-08A3-4CAF-AA62-1D689545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A57B3-A872-4D9E-B034-5D2F413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D6CC5-A6B2-4057-A7B2-DCA8DE2E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F22F8-C373-45A8-8FB0-B11C25FC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A7FD5-BFAE-44D5-82ED-E646F84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7CD80-3D9E-4E27-9CD4-F2D72F07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C06-47E3-4C5F-85F6-192F1107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0F0BD-98A5-470A-8A31-32F3BD9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BAC6A-DF04-400E-A937-9A5A187E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1ABB9-861F-45DF-9AA2-AAC9991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54DD3-4E98-4AC0-97B6-6F5B8F74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1BBD-70CD-4173-9B48-A53CF059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7FE7D-AA25-4E12-BA08-36EC5C01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DF1D7-4C95-4AF9-B844-04233FAC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E51C8-1F76-48B1-830A-0462180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D2E34-AC7B-475A-9965-1AC4587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0F37C-41A3-4475-A710-813F8D3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14B7-338F-4853-9C2B-745A76C2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0C213-2DD5-4E3A-9E83-BE56B5F2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09961-682A-4787-9303-C102A983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D97A3-CD15-4B04-9884-2D32A2C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B3729-A479-4D47-BBD9-9DDD1D8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D7B8C-8413-4DA5-B82E-A9FA21B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26F15-70BC-40F1-B75E-F57C5DA7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ADA5B-40CE-4D3A-83F8-392E2393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9E092-E5EF-4DA1-AE03-3DEB8D2F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42C9F-C476-4336-AFB3-3ECD7399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59009-B2CA-4CB6-A80A-D8BC71FA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C669-566E-4E53-A756-7305477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EFE9E-0384-4E34-89A3-FA3B3E55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A87FA-88CC-4823-95AB-5BECDF3B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CB227-8D81-414B-AC15-7A48221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80D61-1981-4C24-BCB7-E6D7E8A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691D2-426A-4254-ABD7-43FA4C3F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51969-071D-4554-8BE2-84CEDA1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DB104-BD80-4FD0-9135-59E3697C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CBC08-4B4D-4FC3-8F07-0AD3692E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ABBF0-1BDB-42EC-97CE-DD98AC8B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5005C-05F8-4564-954E-3165DE97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9066-AD06-46B9-A1DD-67FC75B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76C4C-2FE9-4BC4-A068-DD3EADC9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144B5-772B-40F7-8202-A9A93F1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EBA00-2BCF-4C7A-8E8A-37E6757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F3D5D-63B0-4658-BD32-273DC021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84D3D-F954-47EA-89B5-9C4290A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E1B31-CAEB-4ABF-8020-6E6E91F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42F69-D627-425F-9B25-9AD71E5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BB3CE-397C-4588-BB26-2867C58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B74EE-7D7A-4CA4-982F-98126D60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138D2-D87C-4574-8930-808247B5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A52D-6000-4EA8-9089-C87B7561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14BD1-E7ED-45A9-A993-DD5D553C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F09AC-CCD3-42D5-AEA0-3A029E1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96841-A38B-4C0F-AC7A-2829118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B1E81-FDB4-4DA3-8FEF-2C5CDDDC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DFE03-845C-40C8-8700-B2003971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2DE45-D39E-4BA2-A793-A2AAAA8E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19C66-E808-4B7C-85BB-25963205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34A45-B46B-40EF-9AB0-0444B95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1E01E-B83B-4560-A9D2-28088962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F4EE2-909A-4EEC-9C83-18921E5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B9D-5430-4ED4-9367-E8501CA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148F5-23C9-4727-9611-D326C063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0BAFA-9898-4B0C-A609-FEF47AF7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BE5A2-8FF2-4161-9324-945DE16F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AC52D-CFC3-4F9D-B324-78658898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87FF1-2A8F-45C8-BF2B-A0F38CA6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7A7FD-4051-4C3F-8FA0-4C71020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0CF52-5B18-478A-9ED4-1D97B198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D9023-2505-44A7-AD94-459BFE20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44FE5-CAB2-476D-B16E-F4210C9D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1A66F-A993-4D35-AE76-C8911DD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D29-6503-4264-9650-CE3CE797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E158-23DD-4716-9224-8D45353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669DB-DC7E-4419-A3EC-C0807D7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7DB7A-9874-45B3-B4EB-AF1F713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C1DA4-9AEF-459B-A9C8-52990B8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82AE9-286D-40D2-90C4-ABDC53EA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09729-177D-46B8-92B0-21430CBB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03416-BA49-4B9C-99B7-0DA482F5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FE256-CDA6-4713-BB0D-A108D9A0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983F1-2A7B-42AA-9A00-3978DD3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30157-DD32-4364-B259-91A08A94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7B0BE-7A30-498E-B10B-C2676662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1609-D150-4833-97FB-84210A8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45A03-AC5C-4A98-9FEE-CC16729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19D90-0303-430F-B0EB-246E241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79B28-7925-441E-A9F3-7ACA4A4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08338-B2D9-4931-8F30-508FA20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58B69-4BB9-4BBD-9A7E-1CF6377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99334-EAD8-4BF1-9762-04344AAA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2E8C3-FEBC-40A2-8518-42DFF50D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E8209-582F-4D43-8EBE-982C00DF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E22E7-B2BB-41CD-928A-5352F4F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46723-9F18-49E6-B8C7-6F92919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865D-6E60-4BC9-83F9-37C71CF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A2BDE-4EEB-44D5-8BBC-FDC70BD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8F08A-E0A7-49F4-B97E-DAA75AA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8691E-3A09-4D6A-8F66-19FB78E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4141F-DAC0-4EC2-A5D1-8E0B28F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CED51-549A-4050-968A-099B1C0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A19D9-46C4-442F-BF04-9EA0AE7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49F70-5151-4F1B-AA64-46E9348B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32C0EA-ADAE-43F3-A019-A74CF1E8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C253C-932A-488A-B2CA-A6F2C59E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2B72F-EB53-413B-A39D-6E951A0C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DC9-D455-4813-8339-79701895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D2F88-B32A-422F-9E14-64574923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EB598-73AF-4F17-A599-D4FAE749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EA318-C5A1-49C9-B8CE-0CCDCB77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74163-3DB5-4AD0-A882-B88BF23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C4217-5470-4C4A-8EAC-2D3774FE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38FAB-73D7-4969-BEBD-44A6892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4C974-1A37-4E52-AEDF-FBC05E5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F8E57-E1EA-4E55-9A5D-69EAA229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6614E-0CCF-4F28-BF3B-2EAD835F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D1EE8-3541-4A85-9DBC-108D1DD5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53B2-6A45-4B9F-A30B-4DF322A1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955D8-34D8-4544-9A2B-04E308B5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3FD85-1635-4106-AE7D-94935BBA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E3A7C-BD2D-4768-9E58-D3578692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5CFC25-5906-4CD5-9371-6F88044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4819D-A4EA-4838-871E-891803E9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F856A-A74E-43A4-8E3E-1817340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F14CE-7FAD-4277-8D83-C09AF73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4C8D4-E0DA-43CC-AF5E-2B2822D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459CE-0A35-4A8B-A889-A01257B2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62727-B2CC-4AA9-A41C-14CEE82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AA70-84AD-4C37-BFB3-17995799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42D16-6B83-4053-9F0A-4840A6E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76DD3-D551-4CA8-A504-DB8C662B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2BD67-8B55-4A4C-B2B5-1766204C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E537-19B3-4D5C-BC3C-9A44AC6C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7996-83A6-4ACE-AD8A-FC82AD85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3B6E-3554-44DF-BE73-33CD677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DE50-6A1F-44F3-8E3B-206EDBC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A64-845D-4C0A-854E-D5535025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A711-3263-433C-85C7-1BB7857F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ADF6-8448-4FFA-A0C0-4DB1E9C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2E6B-FCBA-4E3B-AA08-E2DB6C6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AB2C-29EF-42A4-89C0-0808B55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D475-52D7-4FB1-865A-89B2FBB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C89D-8457-455F-8B7D-850AACC5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962E-A22C-48E1-B0B8-CEAE8F6E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0930-E78B-4838-BA55-75FB35C5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6CB2-ADA8-478D-8C64-BFFA3A3D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2CFD-5D2E-429E-8DCA-45A65C22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32B-9BD9-4F8F-9CC9-9FADDE09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C094-D6BC-404C-A4A1-E8433E6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0976-D34A-4A7A-8532-837838DA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634A-7448-41BA-8864-A31C5373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5437-2FDA-412D-9047-F231D19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3D44-A84F-4B33-889D-E704F8E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58E1-9854-4526-BED5-1728FAE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D391-C882-4020-9B3A-AE1EA311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91C4-EC93-435D-9D4B-B3D0EEB8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2B34-08EF-4564-A30D-779C9C79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8076-26BC-47AA-A2DD-52ACFC9D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F6D-383D-4D3C-B2B2-CAB5657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F42D-78A9-4187-81E2-28B3D36D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7D35-75DD-4F8E-99BA-34B86B6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13935-E6D2-44B4-AC32-A0FD09A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537FC-985B-45CC-948F-A83DE26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DE4F-EFFE-4579-A604-72A08F46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1A29-432F-45AE-8358-B938202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DE184-4002-448F-B136-69FB315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A6F3-6042-4157-8425-8C64306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7EE3-F539-49AC-90E2-41E6CC9C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F6B9-B526-4012-9469-970F60CC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C05-4D85-4804-9A18-28078E92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534A6-4F8A-4DB6-AF06-4FFC50C8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0FD7-A39C-4528-93BC-3E30E8B0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8F86-C50F-42E6-A640-7621D85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311C-56A3-4109-9061-946B7B0C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58F5-5D0A-471D-96A7-6583DB3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AE81-A0B8-49B1-8371-FD187040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C67F0-1646-47D1-80F2-0F1DB715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3D85-4C3A-44FE-9C17-4AED03A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3A38-EEED-40BE-AE6F-9CC58CD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C504C-33A3-4434-A055-7E98994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4A9-2DF7-42C0-A835-1B70CA28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7A19-E817-4AC6-B039-555C6EB3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5188B-371F-405C-BFBD-AF6AF2F7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F5FF2-C6E8-49D9-B2D1-90E19114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F7CED-2AED-489B-B99D-31D907EF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3F33C-4A75-48EE-8469-069E1CC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9BC8-025A-441F-95C0-F6F1783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BB83-C709-4B44-BE2A-81BF5F1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F53B6-D775-4C30-82AA-395B545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BABC2-34AD-451E-9A9C-072616D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95423-E607-4E84-8B1B-40DC625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3F9-1755-4CAB-A483-5EC3F770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19C67-B63C-4F81-9246-73F820F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8765C-DC30-4A47-AA85-A27363C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41433-2876-4A90-B7B8-92B8038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E43E-96D2-4BF5-9B59-0F664ED8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935A-41BE-4C50-BA7B-AE022F44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C7A1-D05B-4229-A027-BAD15844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9158-3063-469D-B204-F949B310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645FB-96BC-437A-BD9D-E20A12F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43E5-A50D-4A18-91DB-EA28F049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86BF-CFB8-4526-AAA2-D1197EA5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701-2E0C-412D-AE85-3F237E6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2804B-0296-4C49-958A-28EC7E4C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2B84-9B6F-4999-9EA2-26F3BCE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56EA-C0CA-4566-8EC8-6B59743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759C-64ED-490B-9B0D-F8808C5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9AFC1-F165-4CF6-B112-95C113E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6FEB3-D049-44B4-850E-BC3CB4DF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EA49-8DAD-48D7-BBB3-9E7EE69A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A5A85-44D4-487F-8582-9BBEA145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15E93-17ED-45BD-9D82-1837D913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87E09-55A6-4998-8E42-2C3A96F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2C7-CFB4-4C40-9A97-287EEFA2E0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B2DA-7D20-4CBE-B7A0-8E1E6AFEA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A9D6-8B48-4F93-83B3-C667B1C5E8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0B7-6531-4294-B1B5-798E00951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1957-767D-4B1A-89D1-D256C67D0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6733-A809-40BC-A0E4-1BAB683DA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426C-864C-4ACF-B4B7-462C96963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32EF-1D7B-4CB2-8D61-75FA114BE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EF35-BE2D-40F8-9FCF-FEB05CE2A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9490-43BE-4DAC-BF08-4C605A4C59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826-AC21-45E7-9B8F-FB13E5569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B3A-C8BA-434E-89B8-F97A4B1615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1262-BF51-4540-B6F7-AA6979062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BD17-1024-4BE9-B936-C70B6AEEE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F263-A34F-4335-B088-7E5AA27FE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6318-A91E-479E-B46A-FE6AB4AD7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EDB-4A68-4C00-A9EC-854150F1E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4801-82E3-49C3-9385-83E6709AA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D68-88CD-4F01-BEB0-C380772EA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75DE-AF83-465E-9AE7-F4B439AC0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E44-9168-4E6A-A3E3-EEEEA6447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4B65-E0D8-4CE4-AABD-BD89CD4136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98F8-8960-467B-996C-0EC7FF21C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061-2F93-4B64-A1A5-BCBEF48F6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0AB0-3AA4-4EEC-B307-4CC0AE837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7228-C7A7-41AB-A9B6-4B8718144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4567-21EC-4C14-8DD5-ECD27EA23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111A-EAA8-40F5-8C65-F53077F38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ABF1-D754-426C-A58E-B6D03D46E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190-881A-4690-81F3-536D4BD9F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53B-216C-476C-BB27-A53026A98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C07B-8AB1-44AA-94FA-D28F4FB2D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9A6E-20AF-406D-BB51-8132E776A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DD94-5E86-45E1-97AE-095B1C52D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1A15-3DA6-423E-98F7-6A43FC934C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4FB4-146D-40F8-AEC9-35C205359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574-D31D-4339-B4B9-54C9A42F3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8B5D-9136-47E9-BF9D-9B69D5F89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A2E9-4371-441F-AC93-58ABBFB7D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B87F-6E88-45C1-8136-29FD22069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9" descr=""/>
          <p:cNvPicPr/>
          <p:nvPr/>
        </p:nvPicPr>
        <p:blipFill>
          <a:blip r:embed="rId1"/>
          <a:stretch/>
        </p:blipFill>
        <p:spPr>
          <a:xfrm>
            <a:off x="1595520" y="2905200"/>
            <a:ext cx="59529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69633" descr=""/>
          <p:cNvPicPr/>
          <p:nvPr/>
        </p:nvPicPr>
        <p:blipFill>
          <a:blip r:embed="rId1"/>
          <a:stretch/>
        </p:blipFill>
        <p:spPr>
          <a:xfrm>
            <a:off x="285840" y="923760"/>
            <a:ext cx="8572320" cy="5010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7020000" y="907920"/>
            <a:ext cx="1008000" cy="436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6156360" y="2031840"/>
            <a:ext cx="151128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8609" descr=""/>
          <p:cNvPicPr/>
          <p:nvPr/>
        </p:nvPicPr>
        <p:blipFill>
          <a:blip r:embed="rId1"/>
          <a:stretch/>
        </p:blipFill>
        <p:spPr>
          <a:xfrm>
            <a:off x="295200" y="909720"/>
            <a:ext cx="8553600" cy="50385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6227640" y="922320"/>
            <a:ext cx="503280" cy="436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619280" y="2075040"/>
            <a:ext cx="503280" cy="436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7380360" y="2637000"/>
            <a:ext cx="503280" cy="436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3059280" y="3213000"/>
            <a:ext cx="17287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7585" descr=""/>
          <p:cNvPicPr/>
          <p:nvPr/>
        </p:nvPicPr>
        <p:blipFill>
          <a:blip r:embed="rId1"/>
          <a:stretch/>
        </p:blipFill>
        <p:spPr>
          <a:xfrm>
            <a:off x="363600" y="189000"/>
            <a:ext cx="8601120" cy="621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3492360" y="1312920"/>
            <a:ext cx="503280" cy="436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5867280" y="1873080"/>
            <a:ext cx="50328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6561" descr=""/>
          <p:cNvPicPr/>
          <p:nvPr/>
        </p:nvPicPr>
        <p:blipFill>
          <a:blip r:embed="rId1"/>
          <a:stretch/>
        </p:blipFill>
        <p:spPr>
          <a:xfrm>
            <a:off x="262080" y="1438200"/>
            <a:ext cx="8619840" cy="3981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008000" cy="436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7920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5537" descr=""/>
          <p:cNvPicPr/>
          <p:nvPr/>
        </p:nvPicPr>
        <p:blipFill>
          <a:blip r:embed="rId1"/>
          <a:stretch/>
        </p:blipFill>
        <p:spPr>
          <a:xfrm>
            <a:off x="728640" y="1380960"/>
            <a:ext cx="7686720" cy="4096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592360" cy="43668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5539" descr=""/>
          <p:cNvPicPr/>
          <p:nvPr/>
        </p:nvPicPr>
        <p:blipFill>
          <a:blip r:embed="rId3"/>
          <a:stretch/>
        </p:blipFill>
        <p:spPr>
          <a:xfrm>
            <a:off x="3060720" y="1438200"/>
            <a:ext cx="5210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28600" y="993600"/>
            <a:ext cx="8686800" cy="51721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4284720" y="2079720"/>
            <a:ext cx="718920" cy="312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719280" cy="312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900000" y="2914560"/>
            <a:ext cx="719280" cy="312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4211640" y="3735360"/>
            <a:ext cx="719280" cy="312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1476360" y="4159080"/>
            <a:ext cx="719280" cy="312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148360" y="4149720"/>
            <a:ext cx="576000" cy="312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7380360" y="4546440"/>
            <a:ext cx="576360" cy="312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6516720" y="5383080"/>
            <a:ext cx="792000" cy="312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10"/>
          <a:stretch/>
        </p:blipFill>
        <p:spPr>
          <a:xfrm>
            <a:off x="2268360" y="5805360"/>
            <a:ext cx="792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9410" descr=""/>
          <p:cNvPicPr/>
          <p:nvPr/>
        </p:nvPicPr>
        <p:blipFill>
          <a:blip r:embed="rId1"/>
          <a:stretch/>
        </p:blipFill>
        <p:spPr>
          <a:xfrm>
            <a:off x="237960" y="757080"/>
            <a:ext cx="8668080" cy="5696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317080" y="401940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547640" y="6078600"/>
            <a:ext cx="792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8373" descr=""/>
          <p:cNvPicPr/>
          <p:nvPr/>
        </p:nvPicPr>
        <p:blipFill>
          <a:blip r:embed="rId1"/>
          <a:stretch/>
        </p:blipFill>
        <p:spPr>
          <a:xfrm>
            <a:off x="228600" y="1366920"/>
            <a:ext cx="8686800" cy="4124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317080" y="2276640"/>
            <a:ext cx="360360" cy="3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257040" y="704880"/>
            <a:ext cx="8629920" cy="54482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028000" y="3587760"/>
            <a:ext cx="50328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6324" descr=""/>
          <p:cNvPicPr/>
          <p:nvPr/>
        </p:nvPicPr>
        <p:blipFill>
          <a:blip r:embed="rId1"/>
          <a:stretch/>
        </p:blipFill>
        <p:spPr>
          <a:xfrm>
            <a:off x="243000" y="861840"/>
            <a:ext cx="8658000" cy="5134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5651640" y="3213000"/>
            <a:ext cx="5029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5300" descr=""/>
          <p:cNvPicPr/>
          <p:nvPr/>
        </p:nvPicPr>
        <p:blipFill>
          <a:blip r:embed="rId1"/>
          <a:stretch/>
        </p:blipFill>
        <p:spPr>
          <a:xfrm>
            <a:off x="233280" y="1438200"/>
            <a:ext cx="8677440" cy="3981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028000" y="1498680"/>
            <a:ext cx="50328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4276" descr=""/>
          <p:cNvPicPr/>
          <p:nvPr/>
        </p:nvPicPr>
        <p:blipFill>
          <a:blip r:embed="rId1"/>
          <a:stretch/>
        </p:blipFill>
        <p:spPr>
          <a:xfrm>
            <a:off x="281160" y="890640"/>
            <a:ext cx="8581680" cy="5076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50328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2231" descr=""/>
          <p:cNvPicPr/>
          <p:nvPr/>
        </p:nvPicPr>
        <p:blipFill>
          <a:blip r:embed="rId1"/>
          <a:stretch/>
        </p:blipFill>
        <p:spPr>
          <a:xfrm>
            <a:off x="247680" y="1100160"/>
            <a:ext cx="8648640" cy="4657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00000" y="3400560"/>
            <a:ext cx="1150920" cy="436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258920" y="3962520"/>
            <a:ext cx="11509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1:5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